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2B44-7F6B-4C50-8156-9912C44C5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256D-A2AB-4793-BCBA-9A9958C1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7922-2787-4E5F-B8E2-E0E930A6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24FC-E45C-4A1F-8D3E-3B8848DC1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4DE6-6D7E-4D4F-B753-BD9676D8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D783-2FFA-4430-8EA8-2532928B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0756-4224-4E41-BBAD-BBFC069B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AB0E-A133-446A-9E36-6AF5FD1A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60BA-ECB9-4800-9768-17EE1F73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16C7-6547-42FA-84BA-B88F20B3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AAE8-75AC-4167-A924-F33B0579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C689-A052-430D-9791-466A82D2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311B-0998-47EB-B320-D5A7741F8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ch Dad, Poor 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One:The Rich Don’t Work For Mo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apter 2 of Rich Dad, Poor Dad starts off with Robert having a real father who is a school principal. Who has a safe and secure jobs, but a lot of bills to pa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obert asks his dad how to become rich, because his rich friend’s family didn’t invite him to go to the get away with them because he was considered “poor”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is dad tells him to use his head, so he and his friend Mike, make a business, collecting empty toothpaste tubes and making nickle out of them. When his dad sees, then he tells them how that its illegal and their hopes are destroy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obert’s dad tells him to talk to Mike’s dad, because he is a businessman and knows how to make mone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at the st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and Mike get hired by Mike’s dad, whom Robert refers to as “rich dad,” and they work for 10 cents a day for 3 hrs every Satu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working about 3 weeks, they feel fed up because they work hard and get underpaid, so Robert goes to talk to “rich dad” for a raise or he qu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hting Temp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 Dad offers $1 to $5 raise for Robert and Mike to work for him, but they fight the temptation and disag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 Dad then tells them that they have to work for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ert and Mike agree to this, even though they don’t lik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Like The Ri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’s when, “rich dad” teaches them that’s how normal employees act and react. That they just get a job, and if its not enough money, blame the problem on their employers instead of themsel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 dad tries to teach them lifelong lessons about how to let money work for them, instead of working for mon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For F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ke and Robert work for free for about another 3 weeks, and they keep on doing 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 Dad talks to them later on about how he realized they have ambition because they are able to fight greed and temp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ng A Busi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ile working, Robert and Mike came up with a brilliant idea, seeing that one of the employers keeps half the cover of the comic books, and throws away the res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obert and Mike make an agreement with the comic book distrubtor to keep the comic books, but not resell the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s leads to Robert and Mike’s first business, which is a comic book librar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y keep it open 2 hrs a day, and each kid has to pay 10 cents per visit, and can read as many comic book as they wa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y also hire Mike’s sister to be their secretary and keep track of finance and expens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 of Busi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and Mike, tried to branch out, but couldn’t because they really trusted Mike’s sister. That’s when they learn how hard it is to find and hire good employ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and Mike’s business is closed, because of bullies who forced themselves inside the comic book library and breaking out a fight. So, rich dad recommends to close it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teaches them lessons that how greed is what leads people to dragging themselves out of bed and going to a job they h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r is also a factor, the fear of losing mon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5:03:54Z</dcterms:created>
  <dc:creator>Info Tech</dc:creator>
  <dc:description/>
  <dc:language>en-US</dc:language>
  <cp:lastModifiedBy>Info Tech</cp:lastModifiedBy>
  <dcterms:modified xsi:type="dcterms:W3CDTF">2009-03-26T15:08:57Z</dcterms:modified>
  <cp:revision>6</cp:revision>
  <dc:subject/>
  <dc:title>Rich Dad, Poor Dad</dc:title>
</cp:coreProperties>
</file>